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F4C-15C5-42C8-A32A-9D77C81E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EA2-A405-4AB6-8381-2005F81D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EA9-ED87-44C9-A760-738154C7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394-C9D3-43EC-90F5-F57C838A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0799-C17F-42C7-9714-9DF01F02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710E-742B-48DD-A899-D2B52651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474F-81CE-4E65-B0B6-8B91C933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BA4C-EB57-432A-95B7-4674289B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7412-E3A5-4C69-A9FC-5D0C3032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E69F-3A24-4DE0-8E23-4A15518D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C427-B7E0-4EE7-89E7-1E9361D8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76C-EC24-4968-A60D-40109129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79D4-8A36-4DDA-BD22-87AEA4FE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2846-3AFD-406F-A008-8B56943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22A1-3F38-490D-A8CC-66DEC3E3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0BE6-EC28-4F5A-ACB9-2639FA65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C735-5B0C-4397-93E6-7E3D2B39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969-C28C-4CDB-9E6A-C2C1977D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B93-46FF-48BF-873F-40E0FF24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9B8-CE23-41CC-A2EC-C284C3D6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BDA-2C90-4D20-A08D-76BA4723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669-0224-4FB9-A668-677C0967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F36-0416-4DD7-A2ED-E319893F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070-86A5-4022-BACE-A076B830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7EC9-899B-405E-B961-31B63A9377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FAC4-E580-41B3-B657-30999E96DB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17.xml"/><Relationship Id="rId4" Type="http://schemas.openxmlformats.org/officeDocument/2006/relationships/slide" Target="slide2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 “I will never stir from your side, when I am suffered to be near you. Please God, I will be as true to you as you have been to me!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4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1143000"/>
            <a:ext cx="1371600" cy="459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am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143000"/>
            <a:ext cx="1447560" cy="459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am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eat Expect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y Charles Dicke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Stephen Torrance User</cp:lastModifiedBy>
  <dcterms:modified xsi:type="dcterms:W3CDTF">2009-03-15T20:33:16Z</dcterms:modified>
  <cp:revision>30</cp:revision>
  <dc:subject/>
  <dc:title>Are You Smarter  Than a 5th Grader?</dc:title>
</cp:coreProperties>
</file>